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344B-BA59-442D-8F84-585C2DC2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C3B65-190C-4CFF-A898-78A540E6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D767-9FB8-4D79-B786-2312FE24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57DB-5A01-42A9-B697-35CA0CAA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05F3-4F33-4608-BE8B-45984F61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4849-8F46-4CE3-97FF-918901B7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A7D3-C87E-4C59-919D-0B3C553D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50C24-6617-4608-9298-4E683699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9ED7-4F70-447C-8E9E-2579BDB3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13C9A-3DF4-46E4-80B6-0C63562F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BCF6-3AE5-4181-B484-3A746E93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4985-F85D-465C-8DD1-C9C9CBF0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21CDDD97-1D40-4175-B5FA-9C6A5E2731D3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4774-5FDB-4B73-B4C2-A0F4201744A3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51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43520" y="3048120"/>
            <a:ext cx="66024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905120"/>
            <a:ext cx="130644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65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 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concept without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03440" y="26668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75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60240" y="2057400"/>
            <a:ext cx="193068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81360" y="3048120"/>
            <a:ext cx="774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1440" y="3200400"/>
            <a:ext cx="135864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8160" y="23623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29240" y="1905120"/>
            <a:ext cx="5778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89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with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03440" y="16765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1905120"/>
            <a:ext cx="7495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51440" y="1905120"/>
            <a:ext cx="14349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-MUX</a:t>
            </a:r>
            <a:br>
              <a:rPr sz="2400"/>
            </a:b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TraceMultiplexer.ex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0" y="2666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7432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9448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target side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nable L1-tracing over one of the Com-Ports of the B/C-Sample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via monitor-program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650960" y="1228680"/>
            <a:ext cx="6600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72284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278136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3102120" cy="268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2767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9528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1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earCase: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sert “include \\hokus\csi\gpf_testtools.csi” right after “mkbranch xxx_view” in your ConfigSpec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build ccddata_dll.dll (in /GPF/BIN)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itvars.b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 ccddata gprs win32 t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2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py …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\\rk\ti_mux\bin\TraceMultiplexer.exe -&gt; /GPF/BI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t baudrate of comport inside TI-TraceMultiplexer to 115200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985840" cy="159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86200" y="4029120"/>
            <a:ext cx="5591160" cy="136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4267080"/>
            <a:ext cx="2590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Usa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estsystem/tool side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 pco2.bat in /GPF/BIN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AVE! For Win2000-SP2 use pco2000.bat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e /GPF/DOC/pco/pco_userguide.doc and /GPF/DOC/xpanel/xpan_userguide.doc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r detailed informa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xit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76688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5181480"/>
            <a:ext cx="6172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1-08-20T15:36:50Z</dcterms:modified>
  <cp:revision>80</cp:revision>
  <dc:subject/>
  <dc:title>xPanel &amp; PCO2</dc:title>
</cp:coreProperties>
</file>